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E49B-EA68-4217-AD79-1B6A86953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20F5-64E4-4512-A990-357865BE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A693-6DEF-4E7B-A75F-05C04801C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C456-8FB5-4130-8821-DC77A840F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8C79-8F58-45E2-8515-EF8723100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EF08-F136-4A74-B740-53B00CB0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9732-7D44-4045-A15E-BC45AB65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B0984-BF15-451C-9444-BB877AF7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2172-CEEF-48E4-A54E-C2C60BF2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DB7A-2573-44BE-9461-56BEB781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8792-FE5D-4124-90D8-F0EC3FFC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3F46-150D-43A4-A42C-290F736A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C4F2-31F0-4848-AC70-728951F8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3AFE-CD66-43AF-A70D-3AE2BCAE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2BD2-0AD0-445F-B509-1A7FA3D9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0C99-76ED-4610-A0A9-5E1152296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9AB7-93C4-4201-BF54-034E6D9A8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33A9-093E-4277-BB77-F3BA4024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0E59-2DB0-440A-B49C-F0CE1D89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A3CF-FB9B-43B8-B424-F0F6C793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887C-384C-478F-BEF9-563F980D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B26B-FC8C-4A1E-9B38-8813E2C5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BE17-F87B-461A-B335-694CF36B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DC28-FE81-426F-AAD9-9C3B4D72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b1bcb4"/>
              </a:gs>
              <a:gs pos="100000">
                <a:srgbClr val="cbd7c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a3bba9"/>
                </a:gs>
                <a:gs pos="100000">
                  <a:srgbClr val="cbd7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bb5a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b5ad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5af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9879-FD39-4249-99C0-5A38F19671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a3bba9"/>
                </a:gs>
                <a:gs pos="100000">
                  <a:srgbClr val="cbd7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bb5a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b5ad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5af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B45F-BE1A-4613-BFD2-A84880F3CF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bd7ce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d80"/>
                </a:solidFill>
                <a:latin typeface="Arial"/>
              </a:rPr>
              <a:t>Tuesday, March 10th</a:t>
            </a:r>
            <a:endParaRPr b="0" lang="en-US" sz="48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762120" y="1676160"/>
            <a:ext cx="76960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the first four terms of this recursive seque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= 24, 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k+1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= -3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k 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+ 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Evaluate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3581280" y="1219320"/>
          <a:ext cx="213372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1219320"/>
                    <a:ext cx="21337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7d80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007d80"/>
                </a:solidFill>
                <a:latin typeface="Arial"/>
              </a:rPr>
              <a:t>Page 626</a:t>
            </a:r>
            <a:br>
              <a:rPr sz="7500"/>
            </a:br>
            <a:r>
              <a:rPr b="0" lang="en-US" sz="7500" spc="-1" strike="noStrike">
                <a:solidFill>
                  <a:srgbClr val="007d80"/>
                </a:solidFill>
                <a:latin typeface="Arial"/>
              </a:rPr>
              <a:t>#51-57,69-73</a:t>
            </a:r>
            <a:br>
              <a:rPr sz="7500"/>
            </a:br>
            <a:r>
              <a:rPr b="0" lang="en-US" sz="7500" spc="-1" strike="noStrike">
                <a:solidFill>
                  <a:srgbClr val="007d80"/>
                </a:solidFill>
                <a:latin typeface="Arial"/>
              </a:rPr>
              <a:t>&amp; 79-83</a:t>
            </a:r>
            <a:endParaRPr b="0" lang="en-US" sz="7500" spc="-1" strike="noStrike">
              <a:solidFill>
                <a:srgbClr val="007d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d80"/>
                </a:solidFill>
                <a:latin typeface="Arial"/>
              </a:rPr>
              <a:t>Questions from homework</a:t>
            </a:r>
            <a:br>
              <a:rPr sz="4000"/>
            </a:br>
            <a:r>
              <a:rPr b="0" lang="en-US" sz="4000" spc="-1" strike="noStrike">
                <a:solidFill>
                  <a:srgbClr val="007d80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7d80"/>
                </a:solidFill>
                <a:latin typeface="Arial"/>
              </a:rPr>
              <a:t>Page 625 #1-11,25-27, 29-33</a:t>
            </a:r>
            <a:endParaRPr b="0" lang="en-US" sz="3500" spc="-1" strike="noStrike">
              <a:solidFill>
                <a:srgbClr val="007d8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7d80"/>
                </a:solidFill>
                <a:latin typeface="Arial"/>
              </a:rPr>
              <a:t>Lesson 9.1</a:t>
            </a:r>
            <a:br>
              <a:rPr sz="7500"/>
            </a:br>
            <a:r>
              <a:rPr b="0" lang="en-US" sz="7500" spc="-1" strike="noStrike">
                <a:solidFill>
                  <a:srgbClr val="007d80"/>
                </a:solidFill>
                <a:latin typeface="Arial"/>
              </a:rPr>
              <a:t>part two</a:t>
            </a:r>
            <a:endParaRPr b="0" lang="en-US" sz="7500" spc="-1" strike="noStrike">
              <a:solidFill>
                <a:srgbClr val="007d8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2362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7d80"/>
                </a:solidFill>
                <a:latin typeface="Arial"/>
              </a:rPr>
              <a:t>Place Important Paper #7 into your binder</a:t>
            </a:r>
            <a:endParaRPr b="0" lang="en-US" sz="5500" spc="-1" strike="noStrike">
              <a:solidFill>
                <a:srgbClr val="007d8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d80"/>
                </a:solidFill>
                <a:latin typeface="Arial"/>
              </a:rPr>
              <a:t>Write an expression for the apparent n</a:t>
            </a:r>
            <a:r>
              <a:rPr b="0" lang="en-US" sz="4000" spc="-1" strike="noStrike" baseline="30000">
                <a:solidFill>
                  <a:srgbClr val="007d8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7d80"/>
                </a:solidFill>
                <a:latin typeface="Arial"/>
              </a:rPr>
              <a:t> term:</a:t>
            </a:r>
            <a:endParaRPr b="0" lang="en-US" sz="40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2, 4, 6, 8, 10, …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3, 7, 11, 15, 19, …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1, 4, 9, 16, 25, 36, …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45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45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45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, …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d80"/>
                </a:solidFill>
                <a:latin typeface="Arial"/>
              </a:rPr>
              <a:t>Factorial</a:t>
            </a:r>
            <a:endParaRPr b="0" lang="en-US" sz="5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actorial of a number N is the product of all positive integers from 1 to 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ymbol is N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768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768" fill="hold"/>
                                        <p:tgtEl>
                                          <p:spTgt spid="2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" dur="768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" dur="768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d80"/>
                </a:solidFill>
                <a:latin typeface="Arial"/>
              </a:rPr>
              <a:t>Evaluate:</a:t>
            </a:r>
            <a:br>
              <a:rPr sz="4000"/>
            </a:br>
            <a:endParaRPr b="0" lang="en-US" sz="40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5!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 baseline="30000">
                <a:solidFill>
                  <a:srgbClr val="ffffff"/>
                </a:solidFill>
                <a:latin typeface="Arial"/>
              </a:rPr>
              <a:t>7!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4!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10! 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  <a:ea typeface="Arial"/>
              </a:rPr>
              <a:t>• 3!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d80"/>
                </a:solidFill>
                <a:latin typeface="Arial"/>
              </a:rPr>
              <a:t>Sigma</a:t>
            </a:r>
            <a:endParaRPr b="0" lang="en-US" sz="5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23619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Sigma is the notation used for summation of limit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The symbol is </a:t>
            </a:r>
            <a:r>
              <a:rPr b="0" lang="en-US" sz="45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Evaluate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124080" y="1447920"/>
          <a:ext cx="266724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447920"/>
                    <a:ext cx="266724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2:28:40Z</dcterms:created>
  <dc:creator>jnewman</dc:creator>
  <dc:description/>
  <dc:language>en-US</dc:language>
  <cp:lastModifiedBy>abeason</cp:lastModifiedBy>
  <dcterms:modified xsi:type="dcterms:W3CDTF">2009-03-09T12:19:27Z</dcterms:modified>
  <cp:revision>12</cp:revision>
  <dc:subject/>
  <dc:title>Lesson 9.1 part two</dc:title>
</cp:coreProperties>
</file>